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8A18-9FB0-46FD-91F1-2429A2CA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0143-7E66-4235-A0E7-160CDFBA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ECEC-5128-42FE-9CE8-AAB8FDBA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C371-8308-4E4C-9A58-690726082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B374-D651-4C73-AE8C-CFB4182D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8BD9-B893-4A57-90C8-77021D01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4F83-F3E9-4D62-9E82-3249853E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4541-C9DD-4FB1-826A-C6D52C9A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7EAC-66A6-476F-8EFA-12DD27BD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1537-4656-4FAD-9F4E-468C8C67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699F-C93C-44A6-AAF4-F7AFC49C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47ED-393F-4753-A044-BE8C7185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81B5-1959-4FCE-9D05-1B8CAF06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676B-F12C-4339-9F01-6540174C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F882-31E4-4928-919F-F5A246B5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A999-282B-4CCF-9B07-98F06F02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C3C2-D079-4A54-94B7-DD4B0E46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335E-1FE3-402F-A2D8-5FE286A4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B824-85F5-4158-B447-58753A74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15C2-086B-4C05-BD92-A15DB886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D00C-A7F5-49D7-AF68-14062571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EFAB-DC43-4F59-ACF4-982F9CB5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2D58-9EAF-4A45-8C38-539EFA9A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DCB3-AE6F-4D7E-9549-1AE17F0F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E1DA-59BC-4D66-BE3F-654358EEBD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CDB4-54A6-4987-8F14-101D06C465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ass Cephalopoda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Head-Footed” Mollu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ephalopods Walk on Their Heads…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las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ephalopoda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cludes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ctopus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squid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autilus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devil fish,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ttlefish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phalopoda comes from the Greek word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epha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aning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ead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o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aning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ot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modified foot is actually concentrated in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ead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cephalic region of their body.  It forms a funnel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apidly removes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ater from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ntle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vity of the body when the cephalopod mo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nterior portion of the body is drawn into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ircle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rown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entac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 These Tentacles Make Me Look Fat…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phalopods range upward in size from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 cm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rgest invertebrate known on earth is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iant squid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Architeuthis  .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t can reach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 fe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length and weighs nearly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 ton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iant squid has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argest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yes in the animal kingdom.  They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 cm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diamet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917960" y="2527200"/>
            <a:ext cx="39276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Umm…Have You Seen My Shell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members of Cephalopoda do not have a visibl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ell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autilus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only member of this class that still has a shell.  It uses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gas chambers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its shell to remain buoyant in the wa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quid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as a tiny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remnant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hell left on the inside of its man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ctopus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as lost its shell completely over the last ti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91320" y="3429000"/>
            <a:ext cx="2995560" cy="2995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181480" y="1143000"/>
            <a:ext cx="2054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ving On Up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phalopods are ver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ast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gile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mmer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swim by expelling water from thei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ntle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2319480"/>
            <a:ext cx="426708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Judge Me By My Book…Not My Cover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17960" y="1143000"/>
            <a:ext cx="3927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phalopods are very complex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nimals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have complex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irculatory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s made with a closed series of vessel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ctopus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_ have very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mplex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rvous systems.  They are capable of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learned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haviors.  Their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yes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very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mple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 a lens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rnea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nd retina.  They can see in the water better tha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 human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ctopu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also use its tentacles to detect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textures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ob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45622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fending My Domain…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phalopods exhibit many complex behavior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ctopus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quid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n expe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k called sep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a defensive behavior to fool and evad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edators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topus use their sharp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eaks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rong tentacles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capture and harm prey.  They are one of the ocean’s mos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owerful preda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30048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7:19:40Z</dcterms:created>
  <dc:creator>kmcgrady</dc:creator>
  <dc:description/>
  <dc:language>en-US</dc:language>
  <cp:lastModifiedBy>kmcgrady</cp:lastModifiedBy>
  <dcterms:modified xsi:type="dcterms:W3CDTF">2011-02-28T19:22:30Z</dcterms:modified>
  <cp:revision>3</cp:revision>
  <dc:subject/>
  <dc:title>Class Cephalopoda</dc:title>
</cp:coreProperties>
</file>